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1DDAF-DB47-4CD3-9D59-DEA202088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lated blood vessels increase the amount of oxygen to the t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lated iris allows more light into the retina (more visual inform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362D-6633-4152-AAE2-CEA8AA4BD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98D1-0159-4297-83DE-311B99353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DAEF-7701-4585-8EAE-4486B2F13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205F-473A-4481-A969-34153BCBE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98E5-D844-4CFA-AFCC-5B849B9CD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2E77-7E67-49E2-9465-58B1CA19F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6FA4-4575-4AF3-927E-4890B3824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8E2D-3DE5-4839-AE07-7CADD0FF9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B308-6AD9-4AC2-8F68-4EBD7E890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EF9E-4CE5-4525-940A-B7DD626B7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79B4-4795-4F0A-9B3B-DE120B5E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86E3-8D26-45FB-8D26-4F603465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18CB8-04B0-49ED-8059-AE911BF025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utonomic Nervous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on next slide from:  http://highered.mcgraw-hill.com/sites/0078664276/student_view0/unit5/chapter21/chapter_test.ht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" y="852480"/>
            <a:ext cx="77724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nomic Nervous System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on next slide from: http://users.rcn.com/jkimball.ma.ultranet/BiologyPages/P/PNS.ht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without consciou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distinct uni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mpathetic nervous syst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(prepares the body for str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asympathetic nervous syst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(restores normal balance after stress adjustm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216080" y="609480"/>
            <a:ext cx="6710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renaline &amp; Noradrena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known as epinephrine &amp; norepinephr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d in adrenal medulla and released under st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 glycogen stores to be converted into glucose; increase in heart rate, breathing rate, cell metabolism; dilation of blood vessels and i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1T10:07:03Z</dcterms:created>
  <dc:creator>rubina khan</dc:creator>
  <dc:description/>
  <dc:language>en-US</dc:language>
  <cp:lastModifiedBy>rubina khan</cp:lastModifiedBy>
  <dcterms:modified xsi:type="dcterms:W3CDTF">2011-12-21T10:32:57Z</dcterms:modified>
  <cp:revision>10</cp:revision>
  <dc:subject/>
  <dc:title>PowerPoint Presentation</dc:title>
</cp:coreProperties>
</file>